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223B-457E-4A4F-842A-475D4E9F48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CA3A-1827-43C6-85C3-185987793A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719C-F6E4-482C-873F-6B5170A8EC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8E99-BE9E-4D86-B279-56A7D4B578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F80B-84A9-4BBB-B878-CBFD80B395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3BF-69C9-4FBD-9AB5-A52A51B75F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77B-6FF2-42B7-8AD6-C7BC5A9E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766-5FB2-4AAA-AEFE-3D314971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416-CC89-49BC-950D-4AF4A9A1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03D-4751-4FBB-8314-30B7F980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C64-E163-4067-A400-39EE0C0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5DB-9413-4E34-B589-2D3D006E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A37-1E1E-4BE1-A777-DF399135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64C-84EB-43EF-8E35-69AC6D8B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2C3-BF15-4D5E-9AD2-5A26F01B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092-74E5-4EF3-B798-290C65B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F80-C1BB-4771-83A0-B47225EF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1ED-F51C-4EE2-AB3D-BA1CE6C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C750-65C0-46B7-8880-48E115BC55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0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1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四章 实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507480" y="3238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点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习归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3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4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80"/>
          <p:cNvSpPr/>
          <p:nvPr/>
        </p:nvSpPr>
        <p:spPr>
          <a:xfrm>
            <a:off x="23904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考点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6147"/>
          <p:cNvGrpSpPr/>
          <p:nvPr/>
        </p:nvGrpSpPr>
        <p:grpSpPr>
          <a:xfrm>
            <a:off x="325440" y="246240"/>
            <a:ext cx="4163040" cy="808200"/>
            <a:chOff x="325440" y="246240"/>
            <a:chExt cx="4163040" cy="808200"/>
          </a:xfrm>
        </p:grpSpPr>
        <p:sp>
          <p:nvSpPr>
            <p:cNvPr id="171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151"/>
            <p:cNvSpPr/>
            <p:nvPr/>
          </p:nvSpPr>
          <p:spPr>
            <a:xfrm>
              <a:off x="1747440" y="52020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平（立）方根的概念和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6152"/>
            <p:cNvSpPr/>
            <p:nvPr/>
          </p:nvSpPr>
          <p:spPr>
            <a:xfrm>
              <a:off x="325440" y="5338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182324"/>
          <p:cNvSpPr/>
          <p:nvPr/>
        </p:nvSpPr>
        <p:spPr>
          <a:xfrm>
            <a:off x="714240" y="1288080"/>
            <a:ext cx="42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算术平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2326"/>
          <p:cNvSpPr/>
          <p:nvPr/>
        </p:nvSpPr>
        <p:spPr>
          <a:xfrm>
            <a:off x="969840" y="182916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(-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立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82327"/>
          <p:cNvSpPr/>
          <p:nvPr/>
        </p:nvSpPr>
        <p:spPr>
          <a:xfrm>
            <a:off x="1070640" y="2381760"/>
            <a:ext cx="31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82333"/>
          <p:cNvSpPr/>
          <p:nvPr/>
        </p:nvSpPr>
        <p:spPr>
          <a:xfrm>
            <a:off x="3610080" y="1303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82334"/>
          <p:cNvSpPr/>
          <p:nvPr/>
        </p:nvSpPr>
        <p:spPr>
          <a:xfrm>
            <a:off x="3549600" y="18302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82337"/>
          <p:cNvSpPr/>
          <p:nvPr/>
        </p:nvSpPr>
        <p:spPr>
          <a:xfrm>
            <a:off x="3290760" y="2287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±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8218"/>
          <p:cNvSpPr/>
          <p:nvPr/>
        </p:nvSpPr>
        <p:spPr>
          <a:xfrm>
            <a:off x="778680" y="2991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对象 178219"/>
          <p:cNvGraphicFramePr/>
          <p:nvPr/>
        </p:nvGraphicFramePr>
        <p:xfrm>
          <a:off x="1185840" y="2921040"/>
          <a:ext cx="1011240" cy="56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对象 1782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5840" y="2921040"/>
                    <a:ext cx="10112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矩形 178220"/>
          <p:cNvSpPr/>
          <p:nvPr/>
        </p:nvSpPr>
        <p:spPr>
          <a:xfrm>
            <a:off x="2600280" y="298332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是（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4"/>
          <p:cNvSpPr/>
          <p:nvPr/>
        </p:nvSpPr>
        <p:spPr>
          <a:xfrm>
            <a:off x="4125960" y="29844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17"/>
          <p:cNvGrpSpPr/>
          <p:nvPr/>
        </p:nvGrpSpPr>
        <p:grpSpPr>
          <a:xfrm>
            <a:off x="868320" y="3411000"/>
            <a:ext cx="6141960" cy="831240"/>
            <a:chOff x="868320" y="3411000"/>
            <a:chExt cx="6141960" cy="831240"/>
          </a:xfrm>
        </p:grpSpPr>
        <p:sp>
          <p:nvSpPr>
            <p:cNvPr id="188" name="矩形 178222"/>
            <p:cNvSpPr/>
            <p:nvPr/>
          </p:nvSpPr>
          <p:spPr>
            <a:xfrm>
              <a:off x="868320" y="3416760"/>
              <a:ext cx="99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±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178224"/>
            <p:cNvSpPr/>
            <p:nvPr/>
          </p:nvSpPr>
          <p:spPr>
            <a:xfrm>
              <a:off x="4036320" y="358632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   5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78226"/>
            <p:cNvSpPr/>
            <p:nvPr/>
          </p:nvSpPr>
          <p:spPr>
            <a:xfrm>
              <a:off x="2380680" y="3412800"/>
              <a:ext cx="115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.   -5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178228"/>
            <p:cNvGrpSpPr/>
            <p:nvPr/>
          </p:nvGrpSpPr>
          <p:grpSpPr>
            <a:xfrm>
              <a:off x="5835600" y="3411000"/>
              <a:ext cx="1174680" cy="825480"/>
              <a:chOff x="5835600" y="3411000"/>
              <a:chExt cx="1174680" cy="825480"/>
            </a:xfrm>
          </p:grpSpPr>
          <p:sp>
            <p:nvSpPr>
              <p:cNvPr id="192" name="矩形 178229"/>
              <p:cNvSpPr/>
              <p:nvPr/>
            </p:nvSpPr>
            <p:spPr>
              <a:xfrm>
                <a:off x="5835600" y="3411000"/>
                <a:ext cx="601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D.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3" name="对象 178230"/>
              <p:cNvGraphicFramePr/>
              <p:nvPr/>
            </p:nvGraphicFramePr>
            <p:xfrm>
              <a:off x="6423840" y="3588480"/>
              <a:ext cx="586440" cy="4237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94" name="对象 178230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423840" y="3588480"/>
                        <a:ext cx="586440" cy="423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5" name="对象 15"/>
            <p:cNvGraphicFramePr/>
            <p:nvPr/>
          </p:nvGraphicFramePr>
          <p:xfrm>
            <a:off x="6288840" y="3510000"/>
            <a:ext cx="524520" cy="503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6" name="对象 1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88840" y="3510000"/>
                      <a:ext cx="52452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矩形 178231"/>
          <p:cNvSpPr/>
          <p:nvPr/>
        </p:nvSpPr>
        <p:spPr>
          <a:xfrm>
            <a:off x="1027440" y="399960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运算正确的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78232"/>
          <p:cNvSpPr/>
          <p:nvPr/>
        </p:nvSpPr>
        <p:spPr>
          <a:xfrm>
            <a:off x="325440" y="504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对象 178233"/>
          <p:cNvGraphicFramePr/>
          <p:nvPr/>
        </p:nvGraphicFramePr>
        <p:xfrm>
          <a:off x="885960" y="4641840"/>
          <a:ext cx="1901520" cy="40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对象 1782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85960" y="4641840"/>
                    <a:ext cx="19015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对象 178235"/>
          <p:cNvGraphicFramePr/>
          <p:nvPr/>
        </p:nvGraphicFramePr>
        <p:xfrm>
          <a:off x="3379680" y="4473720"/>
          <a:ext cx="1683000" cy="42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2" name="对象 1782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79680" y="4473720"/>
                    <a:ext cx="16830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对象 178237"/>
          <p:cNvGraphicFramePr/>
          <p:nvPr/>
        </p:nvGraphicFramePr>
        <p:xfrm>
          <a:off x="942840" y="5170320"/>
          <a:ext cx="1785960" cy="528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4" name="对象 17823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42840" y="5170320"/>
                    <a:ext cx="17859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矩形 178238"/>
          <p:cNvSpPr/>
          <p:nvPr/>
        </p:nvSpPr>
        <p:spPr>
          <a:xfrm>
            <a:off x="452520" y="51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对象 178239"/>
          <p:cNvGraphicFramePr/>
          <p:nvPr/>
        </p:nvGraphicFramePr>
        <p:xfrm>
          <a:off x="3352680" y="5170320"/>
          <a:ext cx="1738440" cy="419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7" name="对象 17823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352680" y="5170320"/>
                    <a:ext cx="1738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文本框 178241"/>
          <p:cNvSpPr/>
          <p:nvPr/>
        </p:nvSpPr>
        <p:spPr>
          <a:xfrm>
            <a:off x="3492360" y="40006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197635"/>
          <p:cNvSpPr/>
          <p:nvPr/>
        </p:nvSpPr>
        <p:spPr>
          <a:xfrm>
            <a:off x="-324000" y="1103400"/>
            <a:ext cx="37195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76520" indent="-3049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开平方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对象 197636"/>
              <p:cNvSpPr txBox="1"/>
              <p:nvPr/>
            </p:nvSpPr>
            <p:spPr>
              <a:xfrm>
                <a:off x="6188040" y="1362240"/>
                <a:ext cx="115740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文本框 197637"/>
          <p:cNvSpPr/>
          <p:nvPr/>
        </p:nvSpPr>
        <p:spPr>
          <a:xfrm>
            <a:off x="4146120" y="6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类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97638"/>
          <p:cNvSpPr/>
          <p:nvPr/>
        </p:nvSpPr>
        <p:spPr>
          <a:xfrm>
            <a:off x="5910840" y="1138320"/>
            <a:ext cx="165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开立方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97639"/>
          <p:cNvSpPr/>
          <p:nvPr/>
        </p:nvSpPr>
        <p:spPr>
          <a:xfrm>
            <a:off x="1356480" y="3716280"/>
            <a:ext cx="1732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方根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97640"/>
          <p:cNvSpPr/>
          <p:nvPr/>
        </p:nvSpPr>
        <p:spPr>
          <a:xfrm>
            <a:off x="5961600" y="3705120"/>
            <a:ext cx="165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立方根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97641"/>
          <p:cNvSpPr/>
          <p:nvPr/>
        </p:nvSpPr>
        <p:spPr>
          <a:xfrm>
            <a:off x="5219640" y="1652760"/>
            <a:ext cx="3241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求一个数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立方根的运算，叫做开立方，其中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叫做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：求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立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97642"/>
          <p:cNvSpPr/>
          <p:nvPr/>
        </p:nvSpPr>
        <p:spPr>
          <a:xfrm>
            <a:off x="857160" y="4221000"/>
            <a:ext cx="3067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个正数有两个平方根；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只有一个平方根，它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本身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负数没有平方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97643"/>
          <p:cNvSpPr/>
          <p:nvPr/>
        </p:nvSpPr>
        <p:spPr>
          <a:xfrm>
            <a:off x="5292720" y="4365720"/>
            <a:ext cx="3543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正数的立方根是正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负数的立方根是负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立方根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97645"/>
          <p:cNvSpPr/>
          <p:nvPr/>
        </p:nvSpPr>
        <p:spPr>
          <a:xfrm>
            <a:off x="684360" y="1677960"/>
            <a:ext cx="3671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求一个数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方根的运算，叫做开平方，其中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叫做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：求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00720" y="1557360"/>
            <a:ext cx="360" cy="4680000"/>
            <a:chOff x="4500720" y="1557360"/>
            <a:chExt cx="360" cy="4680000"/>
          </a:xfrm>
        </p:grpSpPr>
        <p:sp>
          <p:nvSpPr>
            <p:cNvPr id="220" name="直接连接符 197647"/>
            <p:cNvSpPr/>
            <p:nvPr/>
          </p:nvSpPr>
          <p:spPr>
            <a:xfrm>
              <a:off x="4500720" y="1557360"/>
              <a:ext cx="0" cy="4680000"/>
            </a:xfrm>
            <a:prstGeom prst="line">
              <a:avLst/>
            </a:prstGeom>
            <a:ln w="284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4500720" y="1557360"/>
              <a:ext cx="360" cy="468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5"/>
          <p:cNvSpPr/>
          <p:nvPr/>
        </p:nvSpPr>
        <p:spPr>
          <a:xfrm>
            <a:off x="108000" y="44280"/>
            <a:ext cx="94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6147"/>
          <p:cNvGrpSpPr/>
          <p:nvPr/>
        </p:nvGrpSpPr>
        <p:grpSpPr>
          <a:xfrm>
            <a:off x="325440" y="246240"/>
            <a:ext cx="2729880" cy="808200"/>
            <a:chOff x="325440" y="246240"/>
            <a:chExt cx="2729880" cy="808200"/>
          </a:xfrm>
        </p:grpSpPr>
        <p:sp>
          <p:nvSpPr>
            <p:cNvPr id="224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6151"/>
            <p:cNvSpPr/>
            <p:nvPr/>
          </p:nvSpPr>
          <p:spPr>
            <a:xfrm>
              <a:off x="1380960" y="5202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实数的有关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4"/>
          <p:cNvSpPr/>
          <p:nvPr/>
        </p:nvSpPr>
        <p:spPr>
          <a:xfrm>
            <a:off x="1333440" y="165564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限小数是无理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绝对值等于本身的数是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实数和数轴上的点一一对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带根号的数是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8160" y="1122480"/>
            <a:ext cx="89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叙述正确的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4069080" y="1125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1101960" y="3549600"/>
            <a:ext cx="39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说法中，错误的个数是 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2104560" y="4005360"/>
            <a:ext cx="290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理数都是无限小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理数都是开方开不尽的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带根号的都是无理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无限小数都是无理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1373760" y="5661000"/>
            <a:ext cx="42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5149440" y="3502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6147"/>
          <p:cNvGrpSpPr/>
          <p:nvPr/>
        </p:nvGrpSpPr>
        <p:grpSpPr>
          <a:xfrm>
            <a:off x="325440" y="246240"/>
            <a:ext cx="2445480" cy="808560"/>
            <a:chOff x="325440" y="246240"/>
            <a:chExt cx="2445480" cy="808560"/>
          </a:xfrm>
        </p:grpSpPr>
        <p:sp>
          <p:nvSpPr>
            <p:cNvPr id="237" name="矩形 7"/>
            <p:cNvSpPr/>
            <p:nvPr/>
          </p:nvSpPr>
          <p:spPr>
            <a:xfrm>
              <a:off x="885600" y="246240"/>
              <a:ext cx="167292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16"/>
            <p:cNvSpPr/>
            <p:nvPr/>
          </p:nvSpPr>
          <p:spPr>
            <a:xfrm>
              <a:off x="325440" y="534960"/>
              <a:ext cx="52452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151"/>
            <p:cNvSpPr/>
            <p:nvPr/>
          </p:nvSpPr>
          <p:spPr>
            <a:xfrm>
              <a:off x="1310040" y="5202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实数的与数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"/>
          <p:cNvSpPr/>
          <p:nvPr/>
        </p:nvSpPr>
        <p:spPr>
          <a:xfrm>
            <a:off x="539640" y="1843200"/>
            <a:ext cx="81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数轴上表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　的对应点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称点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表示的数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6" descr=""/>
          <p:cNvPicPr/>
          <p:nvPr/>
        </p:nvPicPr>
        <p:blipFill>
          <a:blip r:embed="rId2"/>
          <a:stretch/>
        </p:blipFill>
        <p:spPr>
          <a:xfrm>
            <a:off x="3274920" y="1917720"/>
            <a:ext cx="62568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对象 3"/>
          <p:cNvGraphicFramePr/>
          <p:nvPr/>
        </p:nvGraphicFramePr>
        <p:xfrm>
          <a:off x="5867280" y="2565360"/>
          <a:ext cx="755640" cy="3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对象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565360"/>
                    <a:ext cx="7556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组合 16"/>
          <p:cNvGrpSpPr/>
          <p:nvPr/>
        </p:nvGrpSpPr>
        <p:grpSpPr>
          <a:xfrm>
            <a:off x="1331640" y="3933720"/>
            <a:ext cx="6267600" cy="1278000"/>
            <a:chOff x="1331640" y="3933720"/>
            <a:chExt cx="6267600" cy="1278000"/>
          </a:xfrm>
        </p:grpSpPr>
        <p:cxnSp>
          <p:nvCxnSpPr>
            <p:cNvPr id="247" name="直接箭头连接符 4"/>
            <p:cNvCxnSpPr/>
            <p:nvPr/>
          </p:nvCxnSpPr>
          <p:spPr>
            <a:xfrm flipV="1">
              <a:off x="1331640" y="4653000"/>
              <a:ext cx="6267960" cy="396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8" name="直接连接符 5"/>
            <p:cNvSpPr/>
            <p:nvPr/>
          </p:nvSpPr>
          <p:spPr>
            <a:xfrm>
              <a:off x="4430880" y="443736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6"/>
            <p:cNvSpPr/>
            <p:nvPr/>
          </p:nvSpPr>
          <p:spPr>
            <a:xfrm>
              <a:off x="6015240" y="443736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7"/>
            <p:cNvSpPr/>
            <p:nvPr/>
          </p:nvSpPr>
          <p:spPr>
            <a:xfrm>
              <a:off x="2846880" y="443736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8"/>
            <p:cNvSpPr/>
            <p:nvPr/>
          </p:nvSpPr>
          <p:spPr>
            <a:xfrm>
              <a:off x="5006160" y="4725720"/>
              <a:ext cx="99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9"/>
            <p:cNvSpPr/>
            <p:nvPr/>
          </p:nvSpPr>
          <p:spPr>
            <a:xfrm>
              <a:off x="2694600" y="4704840"/>
              <a:ext cx="99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0"/>
            <p:cNvSpPr/>
            <p:nvPr/>
          </p:nvSpPr>
          <p:spPr>
            <a:xfrm>
              <a:off x="4286880" y="4725720"/>
              <a:ext cx="99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Object 6" descr=""/>
            <p:cNvPicPr/>
            <p:nvPr/>
          </p:nvPicPr>
          <p:blipFill>
            <a:blip r:embed="rId5"/>
            <a:stretch/>
          </p:blipFill>
          <p:spPr>
            <a:xfrm>
              <a:off x="5726880" y="4725000"/>
              <a:ext cx="54468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直接连接符 12"/>
            <p:cNvSpPr/>
            <p:nvPr/>
          </p:nvSpPr>
          <p:spPr>
            <a:xfrm>
              <a:off x="5150880" y="4437360"/>
              <a:ext cx="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13"/>
            <p:cNvSpPr/>
            <p:nvPr/>
          </p:nvSpPr>
          <p:spPr>
            <a:xfrm>
              <a:off x="5006880" y="3933720"/>
              <a:ext cx="99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14"/>
            <p:cNvSpPr/>
            <p:nvPr/>
          </p:nvSpPr>
          <p:spPr>
            <a:xfrm>
              <a:off x="5726880" y="3933720"/>
              <a:ext cx="99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15"/>
            <p:cNvSpPr/>
            <p:nvPr/>
          </p:nvSpPr>
          <p:spPr>
            <a:xfrm>
              <a:off x="4070880" y="4005360"/>
              <a:ext cx="99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6147"/>
          <p:cNvGrpSpPr/>
          <p:nvPr/>
        </p:nvGrpSpPr>
        <p:grpSpPr>
          <a:xfrm>
            <a:off x="325440" y="246240"/>
            <a:ext cx="2729880" cy="808560"/>
            <a:chOff x="325440" y="246240"/>
            <a:chExt cx="2729880" cy="808560"/>
          </a:xfrm>
        </p:grpSpPr>
        <p:sp>
          <p:nvSpPr>
            <p:cNvPr id="260" name="矩形 7"/>
            <p:cNvSpPr/>
            <p:nvPr/>
          </p:nvSpPr>
          <p:spPr>
            <a:xfrm>
              <a:off x="885240" y="246240"/>
              <a:ext cx="167292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16"/>
            <p:cNvSpPr/>
            <p:nvPr/>
          </p:nvSpPr>
          <p:spPr>
            <a:xfrm>
              <a:off x="325440" y="534960"/>
              <a:ext cx="52452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6151"/>
            <p:cNvSpPr/>
            <p:nvPr/>
          </p:nvSpPr>
          <p:spPr>
            <a:xfrm>
              <a:off x="1380960" y="5202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实数的大小比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4"/>
          <p:cNvSpPr/>
          <p:nvPr/>
        </p:nvSpPr>
        <p:spPr>
          <a:xfrm>
            <a:off x="622440" y="1492200"/>
            <a:ext cx="81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轴上的右边点表示的数总是大于左边点表示的数，正数大于一切负数和零，零大于一切负数，两个负数比较绝对值大的反而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24000" y="3357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l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Object 11" descr=""/>
          <p:cNvPicPr/>
          <p:nvPr/>
        </p:nvPicPr>
        <p:blipFill>
          <a:blip r:embed="rId2"/>
          <a:stretch/>
        </p:blipFill>
        <p:spPr>
          <a:xfrm>
            <a:off x="1260360" y="4294080"/>
            <a:ext cx="668520" cy="49536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12" descr=""/>
          <p:cNvPicPr/>
          <p:nvPr/>
        </p:nvPicPr>
        <p:blipFill>
          <a:blip r:embed="rId3"/>
          <a:stretch/>
        </p:blipFill>
        <p:spPr>
          <a:xfrm>
            <a:off x="2771640" y="4294080"/>
            <a:ext cx="720720" cy="50184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13" descr=""/>
          <p:cNvPicPr/>
          <p:nvPr/>
        </p:nvPicPr>
        <p:blipFill>
          <a:blip r:embed="rId4"/>
          <a:stretch/>
        </p:blipFill>
        <p:spPr>
          <a:xfrm>
            <a:off x="3995640" y="4076640"/>
            <a:ext cx="532080" cy="81288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14" descr=""/>
          <p:cNvPicPr/>
          <p:nvPr/>
        </p:nvPicPr>
        <p:blipFill>
          <a:blip r:embed="rId5"/>
          <a:stretch/>
        </p:blipFill>
        <p:spPr>
          <a:xfrm>
            <a:off x="5292720" y="4005360"/>
            <a:ext cx="577800" cy="88272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15" descr=""/>
          <p:cNvPicPr/>
          <p:nvPr/>
        </p:nvPicPr>
        <p:blipFill>
          <a:blip r:embed="rId6"/>
          <a:stretch/>
        </p:blipFill>
        <p:spPr>
          <a:xfrm>
            <a:off x="2050920" y="4294080"/>
            <a:ext cx="457200" cy="45108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16" descr=""/>
          <p:cNvPicPr/>
          <p:nvPr/>
        </p:nvPicPr>
        <p:blipFill>
          <a:blip r:embed="rId7"/>
          <a:stretch/>
        </p:blipFill>
        <p:spPr>
          <a:xfrm>
            <a:off x="4788000" y="4294080"/>
            <a:ext cx="457200" cy="4510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717480" y="5165640"/>
            <a:ext cx="75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写出两个大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无理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50" descr=""/>
          <p:cNvPicPr/>
          <p:nvPr/>
        </p:nvPicPr>
        <p:blipFill>
          <a:blip r:embed="rId8"/>
          <a:stretch/>
        </p:blipFill>
        <p:spPr>
          <a:xfrm>
            <a:off x="4861080" y="5084640"/>
            <a:ext cx="504720" cy="44460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1" descr=""/>
          <p:cNvPicPr/>
          <p:nvPr/>
        </p:nvPicPr>
        <p:blipFill>
          <a:blip r:embed="rId9"/>
          <a:stretch/>
        </p:blipFill>
        <p:spPr>
          <a:xfrm>
            <a:off x="5796000" y="5084640"/>
            <a:ext cx="42876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复习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5121"/>
          <p:cNvSpPr/>
          <p:nvPr/>
        </p:nvSpPr>
        <p:spPr>
          <a:xfrm>
            <a:off x="2506680" y="37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5122"/>
          <p:cNvSpPr/>
          <p:nvPr/>
        </p:nvSpPr>
        <p:spPr>
          <a:xfrm>
            <a:off x="2397240" y="37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5123"/>
          <p:cNvSpPr/>
          <p:nvPr/>
        </p:nvSpPr>
        <p:spPr>
          <a:xfrm>
            <a:off x="2201760" y="37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5124"/>
          <p:cNvSpPr/>
          <p:nvPr/>
        </p:nvSpPr>
        <p:spPr>
          <a:xfrm>
            <a:off x="2182680" y="37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5125"/>
          <p:cNvSpPr/>
          <p:nvPr/>
        </p:nvSpPr>
        <p:spPr>
          <a:xfrm>
            <a:off x="1949400" y="374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5126"/>
          <p:cNvSpPr/>
          <p:nvPr/>
        </p:nvSpPr>
        <p:spPr>
          <a:xfrm>
            <a:off x="2349360" y="36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5127"/>
          <p:cNvSpPr/>
          <p:nvPr/>
        </p:nvSpPr>
        <p:spPr>
          <a:xfrm>
            <a:off x="2311560" y="36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128"/>
          <p:cNvSpPr/>
          <p:nvPr/>
        </p:nvSpPr>
        <p:spPr>
          <a:xfrm>
            <a:off x="2076480" y="387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5129"/>
          <p:cNvSpPr/>
          <p:nvPr/>
        </p:nvSpPr>
        <p:spPr>
          <a:xfrm>
            <a:off x="2320920" y="363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"/>
          <p:cNvSpPr/>
          <p:nvPr/>
        </p:nvSpPr>
        <p:spPr>
          <a:xfrm>
            <a:off x="3943440" y="125100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4"/>
          <p:cNvGrpSpPr/>
          <p:nvPr/>
        </p:nvGrpSpPr>
        <p:grpSpPr>
          <a:xfrm>
            <a:off x="3131640" y="1708200"/>
            <a:ext cx="2592360" cy="422280"/>
            <a:chOff x="3131640" y="1708200"/>
            <a:chExt cx="2592360" cy="422280"/>
          </a:xfrm>
        </p:grpSpPr>
        <p:sp>
          <p:nvSpPr>
            <p:cNvPr id="288" name="直接连接符 2"/>
            <p:cNvSpPr/>
            <p:nvPr/>
          </p:nvSpPr>
          <p:spPr>
            <a:xfrm flipH="1">
              <a:off x="3131640" y="1708200"/>
              <a:ext cx="1306440" cy="422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3"/>
            <p:cNvSpPr/>
            <p:nvPr/>
          </p:nvSpPr>
          <p:spPr>
            <a:xfrm>
              <a:off x="4438440" y="1708200"/>
              <a:ext cx="1285560" cy="422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文本框 5"/>
          <p:cNvSpPr/>
          <p:nvPr/>
        </p:nvSpPr>
        <p:spPr>
          <a:xfrm>
            <a:off x="2397240" y="2130480"/>
            <a:ext cx="13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5127480" y="213048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 flipH="1" flipV="1">
            <a:off x="1618920" y="2346120"/>
            <a:ext cx="777960" cy="12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 flipH="1">
            <a:off x="6435720" y="2346480"/>
            <a:ext cx="657360" cy="12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0"/>
          <p:cNvSpPr/>
          <p:nvPr/>
        </p:nvSpPr>
        <p:spPr>
          <a:xfrm>
            <a:off x="7093080" y="2130480"/>
            <a:ext cx="13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无限不循环小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1"/>
          <p:cNvSpPr/>
          <p:nvPr/>
        </p:nvSpPr>
        <p:spPr>
          <a:xfrm>
            <a:off x="438120" y="2170080"/>
            <a:ext cx="13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有限小数或无限循环小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6"/>
          <p:cNvGrpSpPr/>
          <p:nvPr/>
        </p:nvGrpSpPr>
        <p:grpSpPr>
          <a:xfrm>
            <a:off x="1979280" y="1708200"/>
            <a:ext cx="4925880" cy="1920960"/>
            <a:chOff x="1979280" y="1708200"/>
            <a:chExt cx="4925880" cy="1920960"/>
          </a:xfrm>
        </p:grpSpPr>
        <p:sp>
          <p:nvSpPr>
            <p:cNvPr id="297" name="直接连接符 1"/>
            <p:cNvSpPr/>
            <p:nvPr/>
          </p:nvSpPr>
          <p:spPr>
            <a:xfrm>
              <a:off x="4437720" y="1708200"/>
              <a:ext cx="0" cy="1798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12"/>
            <p:cNvSpPr/>
            <p:nvPr/>
          </p:nvSpPr>
          <p:spPr>
            <a:xfrm flipH="1" flipV="1">
              <a:off x="1979280" y="2984400"/>
              <a:ext cx="4925880" cy="19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3"/>
            <p:cNvSpPr/>
            <p:nvPr/>
          </p:nvSpPr>
          <p:spPr>
            <a:xfrm flipH="1">
              <a:off x="1979280" y="3004200"/>
              <a:ext cx="9720" cy="565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4"/>
            <p:cNvSpPr/>
            <p:nvPr/>
          </p:nvSpPr>
          <p:spPr>
            <a:xfrm>
              <a:off x="6887160" y="3004200"/>
              <a:ext cx="4320" cy="624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直接连接符 15"/>
          <p:cNvSpPr/>
          <p:nvPr/>
        </p:nvSpPr>
        <p:spPr>
          <a:xfrm>
            <a:off x="1990800" y="4060800"/>
            <a:ext cx="0" cy="9939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1330200" y="36036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18"/>
          <p:cNvSpPr/>
          <p:nvPr/>
        </p:nvSpPr>
        <p:spPr>
          <a:xfrm>
            <a:off x="304920" y="50547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绝对值、相反数、倒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19"/>
          <p:cNvSpPr/>
          <p:nvPr/>
        </p:nvSpPr>
        <p:spPr>
          <a:xfrm>
            <a:off x="3166920" y="350820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数与数轴上的点一一对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20"/>
          <p:cNvSpPr/>
          <p:nvPr/>
        </p:nvSpPr>
        <p:spPr>
          <a:xfrm flipH="1">
            <a:off x="4427280" y="4330800"/>
            <a:ext cx="11160" cy="679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2"/>
          <p:cNvSpPr/>
          <p:nvPr/>
        </p:nvSpPr>
        <p:spPr>
          <a:xfrm>
            <a:off x="3625920" y="5054760"/>
            <a:ext cx="150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实数的大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3"/>
          <p:cNvSpPr/>
          <p:nvPr/>
        </p:nvSpPr>
        <p:spPr>
          <a:xfrm>
            <a:off x="6235560" y="3635280"/>
            <a:ext cx="13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28"/>
          <p:cNvGrpSpPr/>
          <p:nvPr/>
        </p:nvGrpSpPr>
        <p:grpSpPr>
          <a:xfrm>
            <a:off x="6382800" y="4060800"/>
            <a:ext cx="1162440" cy="1022040"/>
            <a:chOff x="6382800" y="4060800"/>
            <a:chExt cx="1162440" cy="1022040"/>
          </a:xfrm>
        </p:grpSpPr>
        <p:sp>
          <p:nvSpPr>
            <p:cNvPr id="309" name="直接连接符 24"/>
            <p:cNvSpPr/>
            <p:nvPr/>
          </p:nvSpPr>
          <p:spPr>
            <a:xfrm flipH="1">
              <a:off x="6932160" y="4060800"/>
              <a:ext cx="6840" cy="446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25"/>
            <p:cNvSpPr/>
            <p:nvPr/>
          </p:nvSpPr>
          <p:spPr>
            <a:xfrm flipH="1" flipV="1">
              <a:off x="6383160" y="4494960"/>
              <a:ext cx="1162080" cy="11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26"/>
            <p:cNvSpPr/>
            <p:nvPr/>
          </p:nvSpPr>
          <p:spPr>
            <a:xfrm flipH="1">
              <a:off x="6382800" y="4507200"/>
              <a:ext cx="3240" cy="503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27"/>
            <p:cNvSpPr/>
            <p:nvPr/>
          </p:nvSpPr>
          <p:spPr>
            <a:xfrm flipH="1">
              <a:off x="7525080" y="4474080"/>
              <a:ext cx="20160" cy="608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文本框 29"/>
          <p:cNvSpPr/>
          <p:nvPr/>
        </p:nvSpPr>
        <p:spPr>
          <a:xfrm>
            <a:off x="5362560" y="501012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开平（立）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30"/>
          <p:cNvSpPr/>
          <p:nvPr/>
        </p:nvSpPr>
        <p:spPr>
          <a:xfrm>
            <a:off x="7189920" y="5081760"/>
            <a:ext cx="11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近似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随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7169"/>
          <p:cNvGrpSpPr/>
          <p:nvPr/>
        </p:nvGrpSpPr>
        <p:grpSpPr>
          <a:xfrm>
            <a:off x="774720" y="895320"/>
            <a:ext cx="7056360" cy="1387440"/>
            <a:chOff x="774720" y="895320"/>
            <a:chExt cx="7056360" cy="1387440"/>
          </a:xfrm>
        </p:grpSpPr>
        <p:sp>
          <p:nvSpPr>
            <p:cNvPr id="317" name="文本框 7170"/>
            <p:cNvSpPr/>
            <p:nvPr/>
          </p:nvSpPr>
          <p:spPr>
            <a:xfrm>
              <a:off x="774720" y="982440"/>
              <a:ext cx="7056360" cy="13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在实数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0.3</a:t>
              </a:r>
              <a:r>
                <a:rPr b="0" lang="zh-CN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0.123456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中，其中无理数的个数是（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A.2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	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  B.3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	</a:t>
              </a:r>
              <a:r>
                <a:rPr b="0" lang="en-US" sz="2400" spc="-1" strike="noStrike">
                  <a:solidFill>
                    <a:srgbClr val="050507"/>
                  </a:solidFill>
                  <a:latin typeface="Times New Roman"/>
                  <a:ea typeface="黑体"/>
                </a:rPr>
                <a:t>   C.4     D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8" name="对象 7171"/>
            <p:cNvGraphicFramePr/>
            <p:nvPr/>
          </p:nvGraphicFramePr>
          <p:xfrm>
            <a:off x="4067280" y="895320"/>
            <a:ext cx="74916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9" name="对象 717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67280" y="895320"/>
                      <a:ext cx="74916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0" name="对象 7173"/>
          <p:cNvGraphicFramePr/>
          <p:nvPr/>
        </p:nvGraphicFramePr>
        <p:xfrm>
          <a:off x="3292560" y="698400"/>
          <a:ext cx="660240" cy="78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对象 71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698400"/>
                    <a:ext cx="6602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20"/>
          <p:cNvSpPr/>
          <p:nvPr/>
        </p:nvSpPr>
        <p:spPr>
          <a:xfrm>
            <a:off x="4427640" y="1413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8193"/>
          <p:cNvSpPr/>
          <p:nvPr/>
        </p:nvSpPr>
        <p:spPr>
          <a:xfrm>
            <a:off x="1875960" y="2491200"/>
            <a:ext cx="309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下列说法中正确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和数轴上的点一一对应的数是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数轴上的点可以表示所有的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带根号的数都是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50507"/>
                </a:solidFill>
                <a:latin typeface="Times New Roman"/>
                <a:ea typeface="黑体"/>
              </a:rPr>
              <a:t>不带根号的数都是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4211640" y="26370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矩形 9218"/>
          <p:cNvSpPr/>
          <p:nvPr/>
        </p:nvSpPr>
        <p:spPr>
          <a:xfrm>
            <a:off x="519120" y="1461960"/>
            <a:ext cx="803448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下列说法错误的是 （   ）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A. 1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的平方根是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B. –1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的立方根是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C.      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是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的平方根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D.–3</a:t>
            </a:r>
            <a:r>
              <a:rPr b="0" lang="zh-CN" sz="2400" spc="-1" strike="noStrike">
                <a:solidFill>
                  <a:srgbClr val="010000"/>
                </a:solidFill>
                <a:latin typeface="Times New Roman"/>
                <a:ea typeface="黑体"/>
              </a:rPr>
              <a:t>是              的平方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对象 9219"/>
              <p:cNvSpPr txBox="1"/>
              <p:nvPr/>
            </p:nvSpPr>
            <p:spPr>
              <a:xfrm>
                <a:off x="1238400" y="3325680"/>
                <a:ext cx="631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对象 9220"/>
              <p:cNvSpPr txBox="1"/>
              <p:nvPr/>
            </p:nvSpPr>
            <p:spPr>
              <a:xfrm>
                <a:off x="1814400" y="3909960"/>
                <a:ext cx="1206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8" name="Text Box 20"/>
          <p:cNvSpPr/>
          <p:nvPr/>
        </p:nvSpPr>
        <p:spPr>
          <a:xfrm>
            <a:off x="3686040" y="16779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177211"/>
          <p:cNvSpPr/>
          <p:nvPr/>
        </p:nvSpPr>
        <p:spPr>
          <a:xfrm>
            <a:off x="1333080" y="84348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运算中，正确的是（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77212"/>
          <p:cNvSpPr/>
          <p:nvPr/>
        </p:nvSpPr>
        <p:spPr>
          <a:xfrm>
            <a:off x="539640" y="37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对象 177213"/>
          <p:cNvGraphicFramePr/>
          <p:nvPr/>
        </p:nvGraphicFramePr>
        <p:xfrm>
          <a:off x="1295280" y="1628640"/>
          <a:ext cx="223200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对象 1772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28640"/>
                    <a:ext cx="22320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矩形 177214"/>
          <p:cNvSpPr/>
          <p:nvPr/>
        </p:nvSpPr>
        <p:spPr>
          <a:xfrm>
            <a:off x="541440" y="38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对象 177215"/>
          <p:cNvGraphicFramePr/>
          <p:nvPr/>
        </p:nvGraphicFramePr>
        <p:xfrm>
          <a:off x="1320840" y="2924280"/>
          <a:ext cx="2111400" cy="56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对象 1772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20840" y="2924280"/>
                    <a:ext cx="21114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矩形 177216"/>
          <p:cNvSpPr/>
          <p:nvPr/>
        </p:nvSpPr>
        <p:spPr>
          <a:xfrm>
            <a:off x="54144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对象 177217"/>
          <p:cNvGraphicFramePr/>
          <p:nvPr/>
        </p:nvGraphicFramePr>
        <p:xfrm>
          <a:off x="1335240" y="3789360"/>
          <a:ext cx="2941560" cy="495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对象 1772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5240" y="3789360"/>
                    <a:ext cx="29415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对象 177219"/>
          <p:cNvGraphicFramePr/>
          <p:nvPr/>
        </p:nvGraphicFramePr>
        <p:xfrm>
          <a:off x="1297080" y="4581360"/>
          <a:ext cx="32893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0" name="对象 1772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7080" y="4581360"/>
                    <a:ext cx="32893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文本框 177220"/>
          <p:cNvSpPr/>
          <p:nvPr/>
        </p:nvSpPr>
        <p:spPr>
          <a:xfrm>
            <a:off x="4572000" y="83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5"/>
          <p:cNvSpPr/>
          <p:nvPr/>
        </p:nvSpPr>
        <p:spPr>
          <a:xfrm>
            <a:off x="108000" y="44280"/>
            <a:ext cx="94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184382"/>
          <p:cNvSpPr/>
          <p:nvPr/>
        </p:nvSpPr>
        <p:spPr>
          <a:xfrm>
            <a:off x="1572480" y="122724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比较大小：               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对象 184383"/>
              <p:cNvSpPr txBox="1"/>
              <p:nvPr/>
            </p:nvSpPr>
            <p:spPr>
              <a:xfrm>
                <a:off x="3132000" y="1203480"/>
                <a:ext cx="1224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对象 184384"/>
              <p:cNvSpPr txBox="1"/>
              <p:nvPr/>
            </p:nvSpPr>
            <p:spPr>
              <a:xfrm>
                <a:off x="4645080" y="1189080"/>
                <a:ext cx="1152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46" name="矩形 184386"/>
          <p:cNvSpPr/>
          <p:nvPr/>
        </p:nvSpPr>
        <p:spPr>
          <a:xfrm>
            <a:off x="1042920" y="2276640"/>
            <a:ext cx="698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-2+    )-(-2+    )=-2+    +2-     =      -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+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+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另解：直接由正负决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+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对象 184387"/>
          <p:cNvGraphicFramePr/>
          <p:nvPr/>
        </p:nvGraphicFramePr>
        <p:xfrm>
          <a:off x="4788000" y="3500280"/>
          <a:ext cx="504720" cy="5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对象 18438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500280"/>
                    <a:ext cx="5047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对象 184388"/>
          <p:cNvGraphicFramePr/>
          <p:nvPr/>
        </p:nvGraphicFramePr>
        <p:xfrm>
          <a:off x="3832200" y="2494080"/>
          <a:ext cx="378000" cy="37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0" name="对象 18438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32200" y="2494080"/>
                    <a:ext cx="37800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对象 184389"/>
          <p:cNvGraphicFramePr/>
          <p:nvPr/>
        </p:nvGraphicFramePr>
        <p:xfrm>
          <a:off x="2747880" y="2448000"/>
          <a:ext cx="453960" cy="45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对象 18438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2448000"/>
                    <a:ext cx="4539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对象 184390"/>
          <p:cNvGraphicFramePr/>
          <p:nvPr/>
        </p:nvGraphicFramePr>
        <p:xfrm>
          <a:off x="5910120" y="3500280"/>
          <a:ext cx="561960" cy="505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4" name="对象 18439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10120" y="3500280"/>
                    <a:ext cx="5619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对象 184391"/>
          <p:cNvGraphicFramePr/>
          <p:nvPr/>
        </p:nvGraphicFramePr>
        <p:xfrm>
          <a:off x="2125800" y="2998800"/>
          <a:ext cx="453960" cy="453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6" name="对象 18439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25800" y="2998800"/>
                    <a:ext cx="4539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对象 184392"/>
          <p:cNvGraphicFramePr/>
          <p:nvPr/>
        </p:nvGraphicFramePr>
        <p:xfrm>
          <a:off x="5632560" y="2473200"/>
          <a:ext cx="377640" cy="378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8" name="对象 18439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632560" y="2473200"/>
                    <a:ext cx="3776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对象 184393"/>
          <p:cNvGraphicFramePr/>
          <p:nvPr/>
        </p:nvGraphicFramePr>
        <p:xfrm>
          <a:off x="6157800" y="2422440"/>
          <a:ext cx="453960" cy="453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0" name="对象 18439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57800" y="2422440"/>
                    <a:ext cx="4539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对象 184394"/>
          <p:cNvGraphicFramePr/>
          <p:nvPr/>
        </p:nvGraphicFramePr>
        <p:xfrm>
          <a:off x="3263760" y="2997360"/>
          <a:ext cx="508320" cy="457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2" name="对象 184394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263760" y="2997360"/>
                    <a:ext cx="508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对象 184395"/>
          <p:cNvGraphicFramePr/>
          <p:nvPr/>
        </p:nvGraphicFramePr>
        <p:xfrm>
          <a:off x="4840200" y="2473200"/>
          <a:ext cx="378000" cy="378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4" name="对象 184395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40200" y="2473200"/>
                    <a:ext cx="378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对象 184396"/>
          <p:cNvGraphicFramePr/>
          <p:nvPr/>
        </p:nvGraphicFramePr>
        <p:xfrm>
          <a:off x="6708600" y="2422440"/>
          <a:ext cx="454320" cy="453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66" name="对象 184396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708600" y="2422440"/>
                    <a:ext cx="4543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矩形 5"/>
          <p:cNvSpPr/>
          <p:nvPr/>
        </p:nvSpPr>
        <p:spPr>
          <a:xfrm>
            <a:off x="108000" y="44280"/>
            <a:ext cx="94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041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知识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24680" y="62064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2"/>
          <p:cNvGrpSpPr/>
          <p:nvPr/>
        </p:nvGrpSpPr>
        <p:grpSpPr>
          <a:xfrm>
            <a:off x="395280" y="1052640"/>
            <a:ext cx="7485120" cy="1191240"/>
            <a:chOff x="395280" y="1052640"/>
            <a:chExt cx="7485120" cy="1191240"/>
          </a:xfrm>
        </p:grpSpPr>
        <p:sp>
          <p:nvSpPr>
            <p:cNvPr id="80" name="文本框 1"/>
            <p:cNvSpPr/>
            <p:nvPr/>
          </p:nvSpPr>
          <p:spPr>
            <a:xfrm>
              <a:off x="395280" y="1052640"/>
              <a:ext cx="748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般地，如果一个数的平方等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这个数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或二次方根．这就是说，如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那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平方根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对象 8196"/>
            <p:cNvGraphicFramePr/>
            <p:nvPr/>
          </p:nvGraphicFramePr>
          <p:xfrm>
            <a:off x="5723640" y="1773000"/>
            <a:ext cx="850680" cy="45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" name="对象 819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3640" y="1773000"/>
                      <a:ext cx="850680" cy="45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Box 6"/>
          <p:cNvSpPr/>
          <p:nvPr/>
        </p:nvSpPr>
        <p:spPr>
          <a:xfrm>
            <a:off x="760320" y="29894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395280" y="357336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个正数有两个平方根，它们互为相反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4"/>
          <p:cNvSpPr/>
          <p:nvPr/>
        </p:nvSpPr>
        <p:spPr>
          <a:xfrm>
            <a:off x="395280" y="422100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有两平方根，是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身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"/>
          <p:cNvSpPr/>
          <p:nvPr/>
        </p:nvSpPr>
        <p:spPr>
          <a:xfrm>
            <a:off x="395280" y="4797360"/>
            <a:ext cx="77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负数没有平方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85360" y="514368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开平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395280" y="587700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一个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根的运算，叫做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黑体"/>
              </a:rPr>
              <a:t>开平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9494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846720" y="55872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算术平方根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135080"/>
            <a:ext cx="79516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把正数的正的平方根叫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算术平方根</a:t>
            </a:r>
            <a:r>
              <a:rPr b="0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正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方等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这个正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算术平方根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97040" y="248616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立方根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6145"/>
          <p:cNvGrpSpPr/>
          <p:nvPr/>
        </p:nvGrpSpPr>
        <p:grpSpPr>
          <a:xfrm>
            <a:off x="465120" y="2749680"/>
            <a:ext cx="8077320" cy="1318680"/>
            <a:chOff x="465120" y="2749680"/>
            <a:chExt cx="8077320" cy="1318680"/>
          </a:xfrm>
        </p:grpSpPr>
        <p:sp>
          <p:nvSpPr>
            <p:cNvPr id="93" name="Rectangle 5"/>
            <p:cNvSpPr/>
            <p:nvPr/>
          </p:nvSpPr>
          <p:spPr>
            <a:xfrm>
              <a:off x="465120" y="274968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般地，一个数的立方等于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这个数就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立方根，也叫做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三次方根．记作 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组合 6147"/>
            <p:cNvGrpSpPr/>
            <p:nvPr/>
          </p:nvGrpSpPr>
          <p:grpSpPr>
            <a:xfrm>
              <a:off x="3996360" y="3280320"/>
              <a:ext cx="874440" cy="788040"/>
              <a:chOff x="3996360" y="3280320"/>
              <a:chExt cx="874440" cy="788040"/>
            </a:xfrm>
          </p:grpSpPr>
          <p:pic>
            <p:nvPicPr>
              <p:cNvPr id="95" name="Object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6360" y="3423960"/>
                <a:ext cx="874440" cy="64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 Box 8"/>
              <p:cNvSpPr/>
              <p:nvPr/>
            </p:nvSpPr>
            <p:spPr>
              <a:xfrm>
                <a:off x="4069440" y="3280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TextBox 3"/>
          <p:cNvSpPr/>
          <p:nvPr/>
        </p:nvSpPr>
        <p:spPr>
          <a:xfrm>
            <a:off x="869400" y="399744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立方根的性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009240" y="44290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正数有一个正的立方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009240" y="48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负数有一个负的立方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719720" y="529416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零的立方根是零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1040760" y="560520"/>
            <a:ext cx="23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平方根与立方根的异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1147680"/>
          <a:ext cx="7391520" cy="2120760"/>
        </p:xfrm>
        <a:graphic>
          <a:graphicData uri="http://schemas.openxmlformats.org/drawingml/2006/table">
            <a:tbl>
              <a:tblPr/>
              <a:tblGrid>
                <a:gridCol w="1784520"/>
                <a:gridCol w="3057480"/>
                <a:gridCol w="2549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被开方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平方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立方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48"/>
          <p:cNvSpPr/>
          <p:nvPr/>
        </p:nvSpPr>
        <p:spPr>
          <a:xfrm>
            <a:off x="3103200" y="1697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两个互为相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257520" y="170964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一个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0"/>
          <p:cNvSpPr/>
          <p:nvPr/>
        </p:nvSpPr>
        <p:spPr>
          <a:xfrm>
            <a:off x="3440520" y="227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平方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2"/>
          <p:cNvSpPr/>
          <p:nvPr/>
        </p:nvSpPr>
        <p:spPr>
          <a:xfrm>
            <a:off x="3719520" y="27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6230520" y="221616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一个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4"/>
          <p:cNvSpPr/>
          <p:nvPr/>
        </p:nvSpPr>
        <p:spPr>
          <a:xfrm>
            <a:off x="6615000" y="278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5"/>
          <p:cNvSpPr/>
          <p:nvPr/>
        </p:nvSpPr>
        <p:spPr>
          <a:xfrm>
            <a:off x="1342080" y="1703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6"/>
          <p:cNvSpPr/>
          <p:nvPr/>
        </p:nvSpPr>
        <p:spPr>
          <a:xfrm>
            <a:off x="1361160" y="223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7"/>
          <p:cNvSpPr/>
          <p:nvPr/>
        </p:nvSpPr>
        <p:spPr>
          <a:xfrm>
            <a:off x="1357200" y="2716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796320" y="334800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无理数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611280" y="3924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把这种无限且不循环的小数叫做无理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11280" y="471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循环的无限小数都是无理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918000" y="56340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无理数的常见形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24000" y="1066680"/>
            <a:ext cx="83707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些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开不尽方的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有规律但不循环的数，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010  010  001  000  01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5880" y="2205000"/>
            <a:ext cx="8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"/>
          <p:cNvSpPr/>
          <p:nvPr/>
        </p:nvSpPr>
        <p:spPr>
          <a:xfrm>
            <a:off x="2781720" y="234792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理数和无理数统称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27120" y="284652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的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573120" y="4213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3" descr=""/>
          <p:cNvPicPr/>
          <p:nvPr/>
        </p:nvPicPr>
        <p:blipFill>
          <a:blip r:embed="rId2"/>
          <a:stretch/>
        </p:blipFill>
        <p:spPr>
          <a:xfrm>
            <a:off x="1506600" y="3708360"/>
            <a:ext cx="501480" cy="208584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4" descr=""/>
          <p:cNvPicPr/>
          <p:nvPr/>
        </p:nvPicPr>
        <p:blipFill>
          <a:blip r:embed="rId3"/>
          <a:stretch/>
        </p:blipFill>
        <p:spPr>
          <a:xfrm>
            <a:off x="3809880" y="3711600"/>
            <a:ext cx="309600" cy="136512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5" descr=""/>
          <p:cNvPicPr/>
          <p:nvPr/>
        </p:nvPicPr>
        <p:blipFill>
          <a:blip r:embed="rId4"/>
          <a:stretch/>
        </p:blipFill>
        <p:spPr>
          <a:xfrm>
            <a:off x="3924360" y="5295960"/>
            <a:ext cx="288720" cy="865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2009880" y="3706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992400" y="3562200"/>
            <a:ext cx="15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92400" y="4643280"/>
            <a:ext cx="16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负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065480" y="4140360"/>
            <a:ext cx="7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938240" y="5219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105440" y="514980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4033800" y="57261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负无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857160" y="56516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黑体"/>
                <a:ea typeface="黑体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限不循环小数</a:t>
            </a:r>
            <a:r>
              <a:rPr b="0" lang="zh-CN" sz="2400" spc="-1" strike="noStrike">
                <a:solidFill>
                  <a:srgbClr val="545472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2056680" y="4211640"/>
            <a:ext cx="14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限小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无限循环小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5794200" y="4718160"/>
            <a:ext cx="18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或  有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15" descr=""/>
          <p:cNvPicPr/>
          <p:nvPr/>
        </p:nvPicPr>
        <p:blipFill>
          <a:blip r:embed="rId5"/>
          <a:stretch/>
        </p:blipFill>
        <p:spPr>
          <a:xfrm>
            <a:off x="7558200" y="4449600"/>
            <a:ext cx="257040" cy="960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6"/>
          <p:cNvSpPr/>
          <p:nvPr/>
        </p:nvSpPr>
        <p:spPr>
          <a:xfrm>
            <a:off x="7669080" y="4140360"/>
            <a:ext cx="12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整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596360" y="5148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881640" y="692280"/>
            <a:ext cx="19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与数轴上的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754200" y="1486080"/>
            <a:ext cx="69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一个有理数都可以用数轴上的点表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55640" y="1989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一个无理数都可以用数轴上的点表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1536840" y="249228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实数与数轴上的点是一一对应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169640" y="2900520"/>
            <a:ext cx="28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的倒数、相反数及绝对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5"/>
          <p:cNvSpPr/>
          <p:nvPr/>
        </p:nvSpPr>
        <p:spPr>
          <a:xfrm>
            <a:off x="466560" y="3573360"/>
            <a:ext cx="849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实数范围内 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反数、倒数、绝对值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意义 ，和有理数范围内的相反数、倒数、绝对值的意义完全一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1159200" y="909720"/>
            <a:ext cx="21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的大小比较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682560" y="1485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数轴上表示的两个实数右边的数总比左边的数大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82560" y="206064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实数大于零，负实数小于零，正实数大于负实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2560" y="2565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个正实数绝对值大的数较大，两个负实数绝对值大的数反而小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807480" y="37800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实数的估算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"/>
          <p:cNvSpPr/>
          <p:nvPr/>
        </p:nvSpPr>
        <p:spPr>
          <a:xfrm>
            <a:off x="611280" y="4221000"/>
            <a:ext cx="7826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实数的大小进行估算时，可先找到所求的被开方数在哪两个相近的完全平方数之间，进而判断其算术平方根在哪两个相邻的整数之间，然后逐步缩小范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41720" y="62388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准确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466560" y="11271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表示原来物体或时间的实际数量的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05440" y="177480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近似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324000" y="22795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接实际的数或在计算中按要求所取的某个准确数接近的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77440" y="3062160"/>
            <a:ext cx="10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精准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395280" y="37101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地，一个近似数四舍五入到哪一位，就说这个数精确到哪一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1001520" y="80028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用计算器开平方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62120" y="163044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开平方运算，按键顺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440080" y="24573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838840" y="24717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对象 12299"/>
          <p:cNvGraphicFramePr/>
          <p:nvPr/>
        </p:nvGraphicFramePr>
        <p:xfrm>
          <a:off x="1692360" y="2470320"/>
          <a:ext cx="637920" cy="60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对象 1229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2470320"/>
                    <a:ext cx="637920" cy="603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TextBox 19"/>
          <p:cNvSpPr/>
          <p:nvPr/>
        </p:nvSpPr>
        <p:spPr>
          <a:xfrm>
            <a:off x="4356000" y="24400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1001520" y="338292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用计算器开立方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11280" y="4213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于开立方运算，按键顺序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3446640" y="4903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被开方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5219640" y="4933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0"/>
          <p:cNvSpPr/>
          <p:nvPr/>
        </p:nvSpPr>
        <p:spPr>
          <a:xfrm>
            <a:off x="1116000" y="48988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对象 12302"/>
          <p:cNvGraphicFramePr/>
          <p:nvPr/>
        </p:nvGraphicFramePr>
        <p:xfrm>
          <a:off x="2700360" y="4870440"/>
          <a:ext cx="638280" cy="60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对象 1230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4870440"/>
                    <a:ext cx="638280" cy="603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